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5A7-7218-433F-9E8C-480EC30E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0B79-3F25-40D1-9543-3C6B56EA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D8FD-548D-4164-9D5F-E23200BC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EE4-F2D2-4377-AB20-584E8649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C959-3C0E-48DA-B695-6D74FF27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9F24-BC6A-4A57-B7C8-049295CC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1DDC-54B8-4979-89BB-C9AC5C3D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2A67-A39B-4CDE-8373-77F1295B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ABA5-073B-43F0-80D3-4878CC3E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31C4-5699-49CB-A651-D811DF70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C8DA-7A7F-4FB0-B325-B50B16D4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7DED-021D-46B0-A5F0-545362F6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208E-A733-4715-8ED6-F5438804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AEFA-71BD-4C06-AE01-E316F7FF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9303-933B-4C97-BF38-52060A6D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FED1-81FF-491C-BC59-2EAC0A90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954E-308D-4E6D-9956-E597034D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247E-7A7E-4DDA-897D-4F5EE138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6C1-6EAE-4065-B143-01F87A35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F05-DB00-437A-B0BD-08DCD451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2BA2-71B6-4D70-B738-094D8F1A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FDA-DA7A-4BD8-8128-B78BD005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3E46-2480-44C7-A015-FFAACB31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E97-F223-4990-813E-1CD20EE6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F887-1C3F-446D-9243-6EC7A61F555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FD27-8608-4D9E-B990-51FD847EA9D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5000"/>
            </a:b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II: Data Analysis: Analyzing Qualitative Da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fferent types of c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ori cod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Codes developed before the data analysi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uctive cod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evelop codes during  data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mo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process of recording notes about what the researcher is learning or feeling from the raw data during and after co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s are an additional tool to help analyzing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ding and analyz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instru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 in pairs to complete the code li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wing conclusions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earcher can use many tools to draw conclus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ume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process of quantifying data (e.g. counting how many times a word appear or a code is repeated) Important for summarizing final find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wing conclusions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76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nk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lation between codes and categ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Hierarchical or strict inclusion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lationship between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radley’s Universal Semantic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lationship between codes and categ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m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uilds relationship between categories and codes using a dia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Network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Define qualitativ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List some resources of qualitativ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Explain  what is meant by qualitative data analysi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dentify the parts of qualitative data analysis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litative 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tion in form of words rather than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urces of qualitative 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Vid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Audio recor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Field obser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Repo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Intervie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Survey com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Historical rec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d0d0d"/>
                </a:solidFill>
                <a:latin typeface="Arial"/>
              </a:rPr>
              <a:t>Photos,painting, so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66"/>
                </a:solidFill>
                <a:latin typeface="Arial"/>
              </a:rPr>
              <a:t>Types of qualitative 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Structured texts </a:t>
            </a:r>
            <a:r>
              <a:rPr b="0" lang="en-US" sz="2600" spc="-1" strike="noStrike">
                <a:solidFill>
                  <a:srgbClr val="0d0d0d"/>
                </a:solidFill>
                <a:latin typeface="Arial"/>
              </a:rPr>
              <a:t>(books, writing, stories, survey comments, news articles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Unstructured texts </a:t>
            </a:r>
            <a:r>
              <a:rPr b="0" lang="en-US" sz="2600" spc="-1" strike="noStrike">
                <a:solidFill>
                  <a:srgbClr val="0d0d0d"/>
                </a:solidFill>
                <a:latin typeface="Arial"/>
              </a:rPr>
              <a:t>(transcriptions, interviews, focus grou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Audio recor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</a:rPr>
              <a:t>Visual dis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litative data analy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process of organizing the raw data in categories, identifying relationships among the categories to provide an explanationand understanding of people and situations which are investig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litative data analysis proc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nvolves 3 procedur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ication of the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awing 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rit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Transcript the information to visualiz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1 I   So you are saying tha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2 R  Yes, I think that…………………………………………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3      …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4      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5  I   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ication of theme (coding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Arial"/>
              </a:rPr>
              <a:t>In this step researcher combine the data  for themes and categories the mark similar passage of the text with a theme label (cod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Arial"/>
              </a:rPr>
              <a:t>Codes can be based on themes, ideas, concepts, terms, phrases or key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Arial"/>
              </a:rPr>
              <a:t>Codes are given a meaningful name to indentify the categ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0d0d"/>
                </a:solidFill>
                <a:latin typeface="Arial"/>
              </a:rPr>
              <a:t>The number of codes grow as we read through th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26:51Z</dcterms:created>
  <dc:creator>user</dc:creator>
  <dc:description/>
  <dc:language>en-US</dc:language>
  <cp:lastModifiedBy>Lorenza Innocenti</cp:lastModifiedBy>
  <dcterms:modified xsi:type="dcterms:W3CDTF">2008-05-25T08:07:10Z</dcterms:modified>
  <cp:revision>68</cp:revision>
  <dc:subject/>
  <dc:title>Course: Fundamentals of Research</dc:title>
</cp:coreProperties>
</file>